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851-EE8A-453F-85ED-A6A35C39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A95-D0BC-4371-830C-679C06F2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4C4-BCFB-4528-8ABF-D3F04DFC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B90-515F-4C7D-AE94-0EEA82AA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494A-3E1D-4978-8D93-149F3B9D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AC8-6508-49C8-985E-902A3609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8FB0-0C21-49E4-929E-8E9DA0C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97F8-FA86-4A20-8673-246BFFD6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3529-31FA-45D3-8340-3FEA8A0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829E-E438-47A7-8184-5D037F0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D00A-341C-4ECE-ADE7-407F35B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CF5-2552-425B-AB32-AC6BFD23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9F6C-28D1-44D6-B08E-7ADCD36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ACD-5FC1-4CF3-A819-7A8B9E1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B91-ADA5-4428-9FA6-C7C46E74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361-08FB-479A-8F1A-2B653E6A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ADD5-3FB1-4AFD-88C0-65A7C89D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8E8-F360-4B50-A65C-BD9E05A1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DEF-DA81-4E46-98B9-93E5381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036-A55F-40DB-A986-5FFE9C5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7B1-FCAC-464C-9352-8E5BA0A5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987-E69E-49F6-B349-6321857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F3D-B8F5-4504-9839-4A2E566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D30-05D2-4E3E-BD58-642E363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336-5653-4705-AC9D-867F1FC4685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FD3-A2ED-4A7A-8FB2-23A76E6CC89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ifferent Energy Sources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859280" y="2781360"/>
            <a:ext cx="378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USTIN G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943280" cy="1657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1800360" cy="165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1943280" cy="1584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780000" y="4581360"/>
            <a:ext cx="1800000" cy="1513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1979640" y="4581360"/>
            <a:ext cx="180036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 rot="1115400">
            <a:off x="900000" y="476280"/>
            <a:ext cx="3275280" cy="3573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rot="20233800">
            <a:off x="4427640" y="1052280"/>
            <a:ext cx="4319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ND POWER!</a:t>
            </a:r>
            <a:br>
              <a:rPr sz="32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IND POWER ENERGATES BY THE WIND TURNING THE BLADES AROUND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 rot="20020800">
            <a:off x="4427640" y="364500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 rot="20083200">
            <a:off x="1508040" y="847800"/>
            <a:ext cx="38577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AR POW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2565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SOLAR POWER CARS,BOATS AND PLAN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 rot="20460600">
            <a:off x="1258560" y="4076280"/>
            <a:ext cx="2592360" cy="1440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 rot="1270800">
            <a:off x="5651280" y="2707920"/>
            <a:ext cx="2160360" cy="1557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 rot="19392600">
            <a:off x="4879800" y="4572000"/>
            <a:ext cx="19447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 rot="5400000">
            <a:off x="-2637720" y="2888280"/>
            <a:ext cx="685800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HYDROELECTRICITY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750000">
            <a:off x="1983960" y="853560"/>
            <a:ext cx="3600360" cy="2962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 rot="20407800">
            <a:off x="5435280" y="3860280"/>
            <a:ext cx="3505320" cy="1933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rot="20399400">
            <a:off x="1687680" y="4797360"/>
            <a:ext cx="28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YDROELECTRICTY IS 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LEAN SOURCE FOR TH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ENVIOR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 rot="1313400">
            <a:off x="4730400" y="126000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3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UCL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 rot="1140600">
            <a:off x="611280" y="836640"/>
            <a:ext cx="3382920" cy="2087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141800" cy="3114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rot="19993800">
            <a:off x="1001880" y="4005000"/>
            <a:ext cx="26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UCLEAR ENERGY I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ERY CLEAN FOR TH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ENVIROMENT BUT IT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N RENEWAB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920" y="404640"/>
            <a:ext cx="86421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IDAL ENERG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1873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 rot="979200">
            <a:off x="4932000" y="3429000"/>
            <a:ext cx="3962520" cy="19843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rot="20871000">
            <a:off x="684360" y="5084280"/>
            <a:ext cx="42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IDAL ENERGY IS A CLEAN SOURCE BUT IT WRECKS THE SHORE THE BECAUSE OF THE TUBES WITH THE LINES INSIDE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9:12:00Z</dcterms:created>
  <dc:creator>HWDSB</dc:creator>
  <dc:description/>
  <dc:language>en-US</dc:language>
  <cp:lastModifiedBy>HWDSB</cp:lastModifiedBy>
  <dcterms:modified xsi:type="dcterms:W3CDTF">2011-01-13T15:23:50Z</dcterms:modified>
  <cp:revision>5</cp:revision>
  <dc:subject/>
  <dc:title>Different Energy Sources </dc:title>
</cp:coreProperties>
</file>